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6D8-9ECB-43A7-AA31-9AB29473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058-88A0-429E-9A5C-087614C5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933-BCD4-42CD-AE99-8F06D92A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F57-48A6-421B-BE4B-EDBAF259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C19-4FD3-4A0B-A72F-76E8470E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5AB-E237-4DB0-944D-5614B89E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29F-FE3E-481C-B626-D05D99A3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094-8E8E-470C-9B1C-21E10BC3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2B6-4069-4CFB-B9C0-C2E57456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F39-F928-4554-9C69-87FA5CA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1FE-6632-4655-8448-D9088106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829-5E81-47D5-88C1-53EE3DA8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d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E96B8D-7279-43F7-AA2C-D316CAEE4B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yandex.ru/imag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428480"/>
            <a:ext cx="68580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ные живот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42864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учитель английского языка Н.А. Клыв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357280" y="0"/>
            <a:ext cx="492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образовательное учреждение                                                    «Средняя общеобразовательная школа» №1                                                                    с углублённым изучением отдельных предметов, село Александров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500120" y="360360"/>
            <a:ext cx="605952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079640" y="1041480"/>
            <a:ext cx="708660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576440" y="798480"/>
            <a:ext cx="598320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968400" y="77148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800360" y="360360"/>
            <a:ext cx="535608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174600"/>
            <a:ext cx="822960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7e0021"/>
                </a:solidFill>
                <a:latin typeface="TruthCYR Black"/>
              </a:rPr>
              <a:t>Amaz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7e0021"/>
                </a:solidFill>
                <a:latin typeface="TruthCYR Black"/>
              </a:rPr>
              <a:t> </a:t>
            </a:r>
            <a:r>
              <a:rPr b="0" lang="ru-RU" sz="6000" spc="-1" strike="noStrike">
                <a:solidFill>
                  <a:srgbClr val="7e0021"/>
                </a:solidFill>
                <a:latin typeface="TruthCYR Black"/>
              </a:rPr>
              <a:t>Creatu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39640" y="360360"/>
            <a:ext cx="8224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80099"/>
                </a:solidFill>
                <a:latin typeface="Arial"/>
              </a:rPr>
              <a:t>Young Zoologis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80099"/>
                </a:solidFill>
                <a:latin typeface="Arial"/>
              </a:rPr>
              <a:t>Green Frie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80099"/>
                </a:solidFill>
                <a:latin typeface="Arial"/>
              </a:rPr>
              <a:t>Animal Lov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896760" y="360360"/>
            <a:ext cx="7447320" cy="60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990720" y="1440000"/>
            <a:ext cx="7110360" cy="521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7e0021"/>
                </a:solidFill>
                <a:latin typeface="TruthCYR Black"/>
              </a:rPr>
              <a:t>Amazing  Cr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1"/>
          <p:cNvSpPr/>
          <p:nvPr/>
        </p:nvSpPr>
        <p:spPr>
          <a:xfrm>
            <a:off x="539640" y="692280"/>
            <a:ext cx="8280360" cy="547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168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ld is full of animals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 полон звер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big and tall,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большие и высо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strong and dangerous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сильные и опас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cute and sma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А некоторые милые и малень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reatures are amazing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создания восхититель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like me and you 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 как ты и 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rotect the animals,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и защитить живот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ir world too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и их мир т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are wonderful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тные прекрас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’re beautiful to see 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краси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them live a happy lif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моги им жить счастливой жизн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them to be free!!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моги им быть свобод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00080" y="66600"/>
            <a:ext cx="306072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12680" y="2227320"/>
            <a:ext cx="3060720" cy="1966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5808600" y="2340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5759280" y="4680000"/>
            <a:ext cx="3240360" cy="19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50760" y="4354560"/>
            <a:ext cx="306072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6"/>
          <a:stretch/>
        </p:blipFill>
        <p:spPr>
          <a:xfrm>
            <a:off x="5840280" y="9684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7"/>
          <a:stretch/>
        </p:blipFill>
        <p:spPr>
          <a:xfrm>
            <a:off x="3419640" y="3551400"/>
            <a:ext cx="2143080" cy="310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8"/>
          <a:stretch/>
        </p:blipFill>
        <p:spPr>
          <a:xfrm>
            <a:off x="3368520" y="179280"/>
            <a:ext cx="216072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-26820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7e0021"/>
                </a:solidFill>
                <a:latin typeface="TruthCYR Black"/>
              </a:rPr>
              <a:t>Fact F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"/>
          <p:cNvGrpSpPr/>
          <p:nvPr/>
        </p:nvGrpSpPr>
        <p:grpSpPr>
          <a:xfrm>
            <a:off x="1414440" y="1125360"/>
            <a:ext cx="6480000" cy="5403600"/>
            <a:chOff x="1414440" y="1125360"/>
            <a:chExt cx="6480000" cy="5403600"/>
          </a:xfrm>
        </p:grpSpPr>
        <p:sp>
          <p:nvSpPr>
            <p:cNvPr id="79" name="Rectangle 3"/>
            <p:cNvSpPr/>
            <p:nvPr/>
          </p:nvSpPr>
          <p:spPr>
            <a:xfrm>
              <a:off x="1414440" y="1125360"/>
              <a:ext cx="1027080" cy="777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2441520" y="1125360"/>
              <a:ext cx="1514880" cy="777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168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Anim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5"/>
            <p:cNvSpPr/>
            <p:nvPr/>
          </p:nvSpPr>
          <p:spPr>
            <a:xfrm>
              <a:off x="3956400" y="1125360"/>
              <a:ext cx="3938040" cy="777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1414440" y="1902960"/>
              <a:ext cx="1027080" cy="4622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168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80"/>
                  </a:solidFill>
                  <a:latin typeface="Arial"/>
                </a:rPr>
                <a:t>What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80"/>
                  </a:solidFill>
                  <a:latin typeface="Arial"/>
                </a:rPr>
                <a:t>it looks lik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80"/>
                  </a:solidFill>
                  <a:latin typeface="Arial"/>
                </a:rPr>
                <a:t>Fa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2441520" y="1902960"/>
              <a:ext cx="1514880" cy="567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168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Siz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3956400" y="1902960"/>
              <a:ext cx="3938040" cy="567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2441520" y="2470320"/>
              <a:ext cx="1514880" cy="65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168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Colou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0"/>
            <p:cNvSpPr/>
            <p:nvPr/>
          </p:nvSpPr>
          <p:spPr>
            <a:xfrm>
              <a:off x="3956400" y="2470320"/>
              <a:ext cx="3938040" cy="65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11"/>
            <p:cNvSpPr/>
            <p:nvPr/>
          </p:nvSpPr>
          <p:spPr>
            <a:xfrm>
              <a:off x="2441520" y="3121200"/>
              <a:ext cx="1514880" cy="777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168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Parts of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the bod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3956400" y="3121200"/>
              <a:ext cx="3938040" cy="777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13"/>
            <p:cNvSpPr/>
            <p:nvPr/>
          </p:nvSpPr>
          <p:spPr>
            <a:xfrm>
              <a:off x="2441520" y="3899160"/>
              <a:ext cx="1514880" cy="61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168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Hom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>
              <a:off x="3956400" y="3899160"/>
              <a:ext cx="3938040" cy="61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2441520" y="4515480"/>
              <a:ext cx="1514880" cy="617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168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Food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3956400" y="4515480"/>
              <a:ext cx="3938040" cy="617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17"/>
            <p:cNvSpPr/>
            <p:nvPr/>
          </p:nvSpPr>
          <p:spPr>
            <a:xfrm>
              <a:off x="2441520" y="5133240"/>
              <a:ext cx="1514880" cy="617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168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Abiliti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18"/>
            <p:cNvSpPr/>
            <p:nvPr/>
          </p:nvSpPr>
          <p:spPr>
            <a:xfrm>
              <a:off x="3956400" y="5133240"/>
              <a:ext cx="3938040" cy="617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19"/>
            <p:cNvSpPr/>
            <p:nvPr/>
          </p:nvSpPr>
          <p:spPr>
            <a:xfrm>
              <a:off x="2441520" y="5751000"/>
              <a:ext cx="1514880" cy="777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168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7e0021"/>
                  </a:solidFill>
                  <a:latin typeface="Arial"/>
                  <a:ea typeface="Arial"/>
                </a:rPr>
                <a:t>Other          facts*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20"/>
            <p:cNvSpPr/>
            <p:nvPr/>
          </p:nvSpPr>
          <p:spPr>
            <a:xfrm>
              <a:off x="3956400" y="5751000"/>
              <a:ext cx="3938040" cy="777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>
              <a:off x="1414440" y="1125360"/>
              <a:ext cx="10270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>
              <a:off x="2441520" y="1125360"/>
              <a:ext cx="15148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>
              <a:off x="3956400" y="1125360"/>
              <a:ext cx="393804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4"/>
            <p:cNvSpPr/>
            <p:nvPr/>
          </p:nvSpPr>
          <p:spPr>
            <a:xfrm>
              <a:off x="2441520" y="1902960"/>
              <a:ext cx="15148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5"/>
            <p:cNvSpPr/>
            <p:nvPr/>
          </p:nvSpPr>
          <p:spPr>
            <a:xfrm>
              <a:off x="3956400" y="1902960"/>
              <a:ext cx="393804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6"/>
            <p:cNvSpPr/>
            <p:nvPr/>
          </p:nvSpPr>
          <p:spPr>
            <a:xfrm>
              <a:off x="1414440" y="2470320"/>
              <a:ext cx="10270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7"/>
            <p:cNvSpPr/>
            <p:nvPr/>
          </p:nvSpPr>
          <p:spPr>
            <a:xfrm>
              <a:off x="2441520" y="2470320"/>
              <a:ext cx="15148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3956400" y="2470320"/>
              <a:ext cx="393804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1414440" y="3121200"/>
              <a:ext cx="10270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2441520" y="3121200"/>
              <a:ext cx="15148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1"/>
            <p:cNvSpPr/>
            <p:nvPr/>
          </p:nvSpPr>
          <p:spPr>
            <a:xfrm>
              <a:off x="3956400" y="3121200"/>
              <a:ext cx="393804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32"/>
            <p:cNvSpPr/>
            <p:nvPr/>
          </p:nvSpPr>
          <p:spPr>
            <a:xfrm>
              <a:off x="1414440" y="3899160"/>
              <a:ext cx="10270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3"/>
            <p:cNvSpPr/>
            <p:nvPr/>
          </p:nvSpPr>
          <p:spPr>
            <a:xfrm>
              <a:off x="2441520" y="3899160"/>
              <a:ext cx="15148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4"/>
            <p:cNvSpPr/>
            <p:nvPr/>
          </p:nvSpPr>
          <p:spPr>
            <a:xfrm>
              <a:off x="3956400" y="3899160"/>
              <a:ext cx="393804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5"/>
            <p:cNvSpPr/>
            <p:nvPr/>
          </p:nvSpPr>
          <p:spPr>
            <a:xfrm>
              <a:off x="1414440" y="4515480"/>
              <a:ext cx="10270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6"/>
            <p:cNvSpPr/>
            <p:nvPr/>
          </p:nvSpPr>
          <p:spPr>
            <a:xfrm>
              <a:off x="2441520" y="4515480"/>
              <a:ext cx="15148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7"/>
            <p:cNvSpPr/>
            <p:nvPr/>
          </p:nvSpPr>
          <p:spPr>
            <a:xfrm>
              <a:off x="3956400" y="4515480"/>
              <a:ext cx="393804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1414440" y="5133240"/>
              <a:ext cx="10270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9"/>
            <p:cNvSpPr/>
            <p:nvPr/>
          </p:nvSpPr>
          <p:spPr>
            <a:xfrm>
              <a:off x="2441520" y="5133240"/>
              <a:ext cx="15148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40"/>
            <p:cNvSpPr/>
            <p:nvPr/>
          </p:nvSpPr>
          <p:spPr>
            <a:xfrm>
              <a:off x="3956400" y="5133240"/>
              <a:ext cx="393804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1"/>
            <p:cNvSpPr/>
            <p:nvPr/>
          </p:nvSpPr>
          <p:spPr>
            <a:xfrm>
              <a:off x="1414440" y="5751000"/>
              <a:ext cx="10270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42"/>
            <p:cNvSpPr/>
            <p:nvPr/>
          </p:nvSpPr>
          <p:spPr>
            <a:xfrm>
              <a:off x="2441520" y="5751000"/>
              <a:ext cx="151488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3"/>
            <p:cNvSpPr/>
            <p:nvPr/>
          </p:nvSpPr>
          <p:spPr>
            <a:xfrm>
              <a:off x="3956400" y="5751000"/>
              <a:ext cx="3938040" cy="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4"/>
            <p:cNvSpPr/>
            <p:nvPr/>
          </p:nvSpPr>
          <p:spPr>
            <a:xfrm>
              <a:off x="1414440" y="1125360"/>
              <a:ext cx="0" cy="7776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5"/>
            <p:cNvSpPr/>
            <p:nvPr/>
          </p:nvSpPr>
          <p:spPr>
            <a:xfrm>
              <a:off x="1414440" y="1902960"/>
              <a:ext cx="0" cy="5670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6"/>
            <p:cNvSpPr/>
            <p:nvPr/>
          </p:nvSpPr>
          <p:spPr>
            <a:xfrm>
              <a:off x="1414440" y="2470320"/>
              <a:ext cx="0" cy="65088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7"/>
            <p:cNvSpPr/>
            <p:nvPr/>
          </p:nvSpPr>
          <p:spPr>
            <a:xfrm>
              <a:off x="1414440" y="3121200"/>
              <a:ext cx="0" cy="7776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8"/>
            <p:cNvSpPr/>
            <p:nvPr/>
          </p:nvSpPr>
          <p:spPr>
            <a:xfrm>
              <a:off x="1414440" y="3899160"/>
              <a:ext cx="0" cy="6159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9"/>
            <p:cNvSpPr/>
            <p:nvPr/>
          </p:nvSpPr>
          <p:spPr>
            <a:xfrm>
              <a:off x="1414440" y="4515480"/>
              <a:ext cx="0" cy="6177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50"/>
            <p:cNvSpPr/>
            <p:nvPr/>
          </p:nvSpPr>
          <p:spPr>
            <a:xfrm>
              <a:off x="1414440" y="5133240"/>
              <a:ext cx="0" cy="6174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1"/>
            <p:cNvSpPr/>
            <p:nvPr/>
          </p:nvSpPr>
          <p:spPr>
            <a:xfrm>
              <a:off x="1414440" y="5751000"/>
              <a:ext cx="0" cy="7779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2"/>
            <p:cNvSpPr/>
            <p:nvPr/>
          </p:nvSpPr>
          <p:spPr>
            <a:xfrm>
              <a:off x="2441520" y="1125360"/>
              <a:ext cx="0" cy="7776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3"/>
            <p:cNvSpPr/>
            <p:nvPr/>
          </p:nvSpPr>
          <p:spPr>
            <a:xfrm>
              <a:off x="2441520" y="1902960"/>
              <a:ext cx="0" cy="5670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4"/>
            <p:cNvSpPr/>
            <p:nvPr/>
          </p:nvSpPr>
          <p:spPr>
            <a:xfrm>
              <a:off x="2441520" y="2470320"/>
              <a:ext cx="0" cy="65088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5"/>
            <p:cNvSpPr/>
            <p:nvPr/>
          </p:nvSpPr>
          <p:spPr>
            <a:xfrm>
              <a:off x="2441520" y="3121200"/>
              <a:ext cx="0" cy="7776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6"/>
            <p:cNvSpPr/>
            <p:nvPr/>
          </p:nvSpPr>
          <p:spPr>
            <a:xfrm>
              <a:off x="2441520" y="3899160"/>
              <a:ext cx="0" cy="6159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7"/>
            <p:cNvSpPr/>
            <p:nvPr/>
          </p:nvSpPr>
          <p:spPr>
            <a:xfrm>
              <a:off x="2441520" y="4515480"/>
              <a:ext cx="0" cy="6177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8"/>
            <p:cNvSpPr/>
            <p:nvPr/>
          </p:nvSpPr>
          <p:spPr>
            <a:xfrm>
              <a:off x="2441520" y="5133240"/>
              <a:ext cx="0" cy="6174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9"/>
            <p:cNvSpPr/>
            <p:nvPr/>
          </p:nvSpPr>
          <p:spPr>
            <a:xfrm>
              <a:off x="2441520" y="5751000"/>
              <a:ext cx="0" cy="7779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60"/>
            <p:cNvSpPr/>
            <p:nvPr/>
          </p:nvSpPr>
          <p:spPr>
            <a:xfrm>
              <a:off x="3956400" y="1125360"/>
              <a:ext cx="0" cy="7776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61"/>
            <p:cNvSpPr/>
            <p:nvPr/>
          </p:nvSpPr>
          <p:spPr>
            <a:xfrm>
              <a:off x="3956400" y="1902960"/>
              <a:ext cx="0" cy="5670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62"/>
            <p:cNvSpPr/>
            <p:nvPr/>
          </p:nvSpPr>
          <p:spPr>
            <a:xfrm>
              <a:off x="3956400" y="2470320"/>
              <a:ext cx="0" cy="65088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3"/>
            <p:cNvSpPr/>
            <p:nvPr/>
          </p:nvSpPr>
          <p:spPr>
            <a:xfrm>
              <a:off x="3956400" y="3121200"/>
              <a:ext cx="0" cy="7776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64"/>
            <p:cNvSpPr/>
            <p:nvPr/>
          </p:nvSpPr>
          <p:spPr>
            <a:xfrm>
              <a:off x="3956400" y="3899160"/>
              <a:ext cx="0" cy="6159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5"/>
            <p:cNvSpPr/>
            <p:nvPr/>
          </p:nvSpPr>
          <p:spPr>
            <a:xfrm>
              <a:off x="3956400" y="4515480"/>
              <a:ext cx="0" cy="6177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6"/>
            <p:cNvSpPr/>
            <p:nvPr/>
          </p:nvSpPr>
          <p:spPr>
            <a:xfrm>
              <a:off x="3956400" y="5133240"/>
              <a:ext cx="0" cy="6174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67"/>
            <p:cNvSpPr/>
            <p:nvPr/>
          </p:nvSpPr>
          <p:spPr>
            <a:xfrm>
              <a:off x="3956400" y="5751000"/>
              <a:ext cx="0" cy="7779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8"/>
            <p:cNvSpPr/>
            <p:nvPr/>
          </p:nvSpPr>
          <p:spPr>
            <a:xfrm>
              <a:off x="7894440" y="1125360"/>
              <a:ext cx="0" cy="7776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9"/>
            <p:cNvSpPr/>
            <p:nvPr/>
          </p:nvSpPr>
          <p:spPr>
            <a:xfrm>
              <a:off x="7894440" y="1902960"/>
              <a:ext cx="0" cy="5670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70"/>
            <p:cNvSpPr/>
            <p:nvPr/>
          </p:nvSpPr>
          <p:spPr>
            <a:xfrm>
              <a:off x="7894440" y="2470320"/>
              <a:ext cx="0" cy="65088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1"/>
            <p:cNvSpPr/>
            <p:nvPr/>
          </p:nvSpPr>
          <p:spPr>
            <a:xfrm>
              <a:off x="7894440" y="3121200"/>
              <a:ext cx="0" cy="7776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72"/>
            <p:cNvSpPr/>
            <p:nvPr/>
          </p:nvSpPr>
          <p:spPr>
            <a:xfrm>
              <a:off x="7894440" y="3899160"/>
              <a:ext cx="0" cy="6159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3"/>
            <p:cNvSpPr/>
            <p:nvPr/>
          </p:nvSpPr>
          <p:spPr>
            <a:xfrm>
              <a:off x="7894440" y="4515480"/>
              <a:ext cx="0" cy="6177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4"/>
            <p:cNvSpPr/>
            <p:nvPr/>
          </p:nvSpPr>
          <p:spPr>
            <a:xfrm>
              <a:off x="7894440" y="5133240"/>
              <a:ext cx="0" cy="61740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75"/>
            <p:cNvSpPr/>
            <p:nvPr/>
          </p:nvSpPr>
          <p:spPr>
            <a:xfrm>
              <a:off x="7894440" y="5751000"/>
              <a:ext cx="0" cy="777960"/>
            </a:xfrm>
            <a:prstGeom prst="line">
              <a:avLst/>
            </a:prstGeom>
            <a:ln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14480" y="117360"/>
            <a:ext cx="2766960" cy="2762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179280" y="4002120"/>
            <a:ext cx="2340000" cy="2657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3240000" y="179280"/>
            <a:ext cx="2340000" cy="266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5992920" y="84240"/>
            <a:ext cx="3024000" cy="270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5"/>
          <a:stretch/>
        </p:blipFill>
        <p:spPr>
          <a:xfrm>
            <a:off x="6119640" y="3976560"/>
            <a:ext cx="2980080" cy="268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6"/>
          <a:stretch/>
        </p:blipFill>
        <p:spPr>
          <a:xfrm>
            <a:off x="2863800" y="4059360"/>
            <a:ext cx="2973600" cy="2657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411120" y="360360"/>
            <a:ext cx="822960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7e0021"/>
                </a:solidFill>
                <a:latin typeface="Times New Roman"/>
              </a:rPr>
              <a:t>I fe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7e0021"/>
                </a:solidFill>
                <a:latin typeface="TruthCYR Black"/>
              </a:rPr>
              <a:t>Goodby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44360" y="1440000"/>
            <a:ext cx="8856720" cy="52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31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спользованные материа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96880" y="250560"/>
            <a:ext cx="82231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yandex.ru/imag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193760" y="900000"/>
            <a:ext cx="6905520" cy="47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440000" y="401760"/>
            <a:ext cx="624024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349200" y="658800"/>
            <a:ext cx="843768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19120" y="771480"/>
            <a:ext cx="8099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631800" y="619200"/>
            <a:ext cx="7875720" cy="57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19120" y="771480"/>
            <a:ext cx="8099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95200" y="790560"/>
            <a:ext cx="8570880" cy="528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9:33:41Z</dcterms:created>
  <dc:creator>Пользователь</dc:creator>
  <dc:description/>
  <dc:language>en-US</dc:language>
  <cp:lastModifiedBy>Татьяна</cp:lastModifiedBy>
  <dcterms:modified xsi:type="dcterms:W3CDTF">2024-02-18T06:21:55Z</dcterms:modified>
  <cp:revision>5</cp:revision>
  <dc:subject/>
  <dc:title>Слайд 1</dc:title>
</cp:coreProperties>
</file>